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5.wmf" ContentType="image/x-wmf"/>
  <Override PartName="/ppt/media/image18.wmf" ContentType="image/x-wmf"/>
  <Override PartName="/ppt/media/image36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png" ContentType="image/png"/>
  <Override PartName="/ppt/media/image3.png" ContentType="image/png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DA9-4885-4B7F-83B1-9DD3C355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11B-5DA4-4B66-987B-773CB53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D2A-621E-4D3A-AE3F-8F795397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A04-A0B5-4E81-8DD2-0354E6AF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30-C55B-49DD-95CC-3D81A0DA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7F1-682D-4697-B5D6-4F9056B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3B7-E6CA-4B66-8641-DDCB9C76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800-CDD4-4513-9E56-BE5DAF10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4D7-E447-473F-9429-03F3A15F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5FB-37D1-43F0-A901-74C9BC1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3E6-3C56-4511-AFC5-DC74C53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D0E-8B53-44AB-8BE8-A80DEEE8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Click to edit the title text format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C6B-B750-47F5-960D-52A0A3CC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Diffuse supernova neutrinos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ecilia Lunard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zona State Univers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RIKEN BNL Research Ce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Status of theory: anti-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</a:t>
            </a:r>
            <a:r>
              <a:rPr b="0" i="1" lang="en-US" sz="4400" spc="-1" strike="noStrike" u="sng" baseline="-25000">
                <a:solidFill>
                  <a:srgbClr val="ff0000"/>
                </a:solidFill>
                <a:uFillTx/>
                <a:latin typeface="Comic Sans MS"/>
              </a:rPr>
              <a:t>e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flux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4495320"/>
            <a:ext cx="77724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ces due to different inputs/metho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185320" cy="2913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81600" y="411408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Astropart.Phys.26:190-201,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696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Experimental status (new!)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676520"/>
          <a:ext cx="8458200" cy="4740120"/>
        </p:xfrm>
        <a:graphic>
          <a:graphicData uri="http://schemas.openxmlformats.org/drawingml/2006/table">
            <a:tbl>
              <a:tblPr/>
              <a:tblGrid>
                <a:gridCol w="1752480"/>
                <a:gridCol w="3353040"/>
                <a:gridCol w="3352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pecies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experi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vious best (c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90%CL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rec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imits on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from SK (c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 90% 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nti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800" spc="-1" strike="noStrike" baseline="-25000">
                          <a:solidFill>
                            <a:srgbClr val="00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SK col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2   (E/MeV&gt;19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.4-2.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(E/MeV&gt;19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SN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,  (22.9&lt;E/MeV&lt;36.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2-5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(22.9&lt;E/MeV&lt;36.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L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E/MeV&gt;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1.0-1.4)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E/MeV&gt;19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nti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 + anti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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L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3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E/MeV&gt;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1.4-1.8)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E/MeV&gt;19.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126320" y="838080"/>
            <a:ext cx="40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L. and O.L.G. Pere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AP08(2008)03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56080" y="1600200"/>
            <a:ext cx="3505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he future: what can we learn?</a:t>
            </a:r>
            <a:br>
              <a:rPr sz="4000"/>
            </a:b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of next generation detector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ure water: anti-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</a:t>
            </a:r>
            <a:r>
              <a:rPr b="0" i="1" lang="en-US" sz="4400" spc="-1" strike="noStrike" u="sng" baseline="-25000">
                <a:solidFill>
                  <a:srgbClr val="ff0000"/>
                </a:solidFill>
                <a:uFillTx/>
                <a:latin typeface="Comic Sans MS"/>
              </a:rPr>
              <a:t>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5640" y="3885840"/>
            <a:ext cx="4800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7467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hang et al. (Kamiokande) PRL61, 1988; Malek et al. (SuperK), PRL90, 2003; Aharmim et al., (SNO), PRD70, 2004; D. Autiero et al. (MEMPHYS, HyperK), arXiv:0705.01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s and Cons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 stud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ground-domin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isi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tm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t a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h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19.3 MeV (anti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er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03720" cy="382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30280" y="548640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gli et al. JCAP 0504:002,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10280" y="2895480"/>
            <a:ext cx="974880" cy="138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14158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(10-20)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msy10"/>
              </a:rPr>
              <a:t>£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SK : event rat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ure 1.6 Mto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e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0.2 Mt for 8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shold 19.3 MeV, 100% effici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3733920"/>
          <a:ext cx="6705360" cy="1828800"/>
        </p:xfrm>
        <a:graphic>
          <a:graphicData uri="http://schemas.openxmlformats.org/drawingml/2006/table">
            <a:tbl>
              <a:tblPr/>
              <a:tblGrid>
                <a:gridCol w="2235240"/>
                <a:gridCol w="2234880"/>
                <a:gridCol w="22352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1987A-motivated (conservat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-motivated (gener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. allowed by SK lim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80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170-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68240" y="6043680"/>
            <a:ext cx="673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L., Astropart.Phys.26:190-201,2006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gli et al. JCAP 0504:002,200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pe &amp; Welzel, 2007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L. and O.L.G. Peres, JCAP08(2008)03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5099040" cy="3722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Spectral sensitivity: limited by background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N ~ 100-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r than typical, (incompatible with SN1987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fu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0.6 -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401400" y="1752480"/>
            <a:ext cx="40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ized to 60 event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3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4920" y="259092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ency FB"/>
              </a:rPr>
              <a:t>Subtracted signal + tot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4640" y="6043680"/>
            <a:ext cx="4582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Phys.Rev.D75:073022,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bars from Fogli et al, JCAP 0504:002,200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904360" y="5334120"/>
            <a:ext cx="1640880" cy="749160"/>
            <a:chOff x="5904360" y="5334120"/>
            <a:chExt cx="1640880" cy="749160"/>
          </a:xfrm>
        </p:grpSpPr>
        <p:sp>
          <p:nvSpPr>
            <p:cNvPr id="115" name=""/>
            <p:cNvSpPr/>
            <p:nvPr/>
          </p:nvSpPr>
          <p:spPr>
            <a:xfrm>
              <a:off x="5904360" y="533412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(18-23 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22720" y="571500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(23-28 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560" y="5710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419400" y="1676520"/>
            <a:ext cx="530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ized to 60 events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MeV=15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0680" y="335268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7160" y="2971800"/>
            <a:ext cx="9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3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0680" y="259092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05740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ot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to learn about original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 degenerac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5410080" cy="406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6040" y="60148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Phys.Rev.D75:073022,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Most likely scenario: rate only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of normaliza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N rate norm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N neutrino flux lumino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del-depend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eed to assume neutrino spectr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rect sensitivity to energy spectru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ed for fixed normal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48760" y="1147680"/>
            <a:ext cx="45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eminds me of Ray Davis’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sta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16200000">
            <a:off x="933840" y="3188520"/>
            <a:ext cx="12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R/SN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9160" y="5943600"/>
            <a:ext cx="63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3352680"/>
            <a:ext cx="4191120" cy="228600"/>
          </a:xfrm>
          <a:prstGeom prst="rect">
            <a:avLst/>
          </a:prstGeom>
          <a:solidFill>
            <a:srgbClr val="99cc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182200">
            <a:off x="2787840" y="236160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rom diffuse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23160" y="35416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stro surveys (SNAP, JW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2161200">
            <a:off x="3733560" y="1828800"/>
            <a:ext cx="396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tist's concep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962520" y="1447920"/>
            <a:ext cx="987120" cy="4202640"/>
            <a:chOff x="3962520" y="1447920"/>
            <a:chExt cx="987120" cy="4202640"/>
          </a:xfrm>
        </p:grpSpPr>
        <p:sp>
          <p:nvSpPr>
            <p:cNvPr id="137" name=""/>
            <p:cNvSpPr/>
            <p:nvPr/>
          </p:nvSpPr>
          <p:spPr>
            <a:xfrm>
              <a:off x="3962520" y="1447920"/>
              <a:ext cx="617040" cy="4190760"/>
            </a:xfrm>
            <a:prstGeom prst="rect">
              <a:avLst/>
            </a:prstGeom>
            <a:solidFill>
              <a:srgbClr val="ffcc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3881880" y="458280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SN c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0" y="304920"/>
            <a:ext cx="2666880" cy="914400"/>
          </a:xfrm>
          <a:prstGeom prst="wedgeRoundRectCallout">
            <a:avLst>
              <a:gd name="adj1" fmla="val 42976"/>
              <a:gd name="adj2" fmla="val 72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 for supri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isible Superno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29400" y="1523880"/>
            <a:ext cx="220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5319000" y="594360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http://snap.lbl.gov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jwst.nasa.gov/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8916E-006 L -0.17882 0.00464 E">
                                      <p:cBhvr>
                                        <p:cTn id="1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hat can we learn (and how)?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ities &amp; moti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detectors: pot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Cherenko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+ G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quid scintill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quid Arg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s for R&amp;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 for the fu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from the present: SK bound constraining SN rate norm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um dependen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648320" cy="3774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32080" y="533412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com et al., JCAP 0504:017,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ater + Gadolinium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2216160" y="5257080"/>
            <a:ext cx="47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com &amp; Vagins, Phys.Rev.Lett.93:171101,200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s and cons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 of water + Gd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0.2%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 cap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Gd: e+ and n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s spallation and invisible mu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risk (new techniq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ap, safe, easy (SK tank can be us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899080" y="320040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ADZOO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eacom and Vagins, PRL93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jor improvement with backg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~ 11.3 MeV (limited by reactors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7294680" cy="3666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878720" y="609588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gli et al. JCAP 0504:002,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(10-20)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msy10"/>
              </a:rPr>
              <a:t>£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SK : event rat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ure 1.6 Mto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e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0.2 Mt for 8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shold 11.3 MeV, 100% effici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19320" y="3505320"/>
          <a:ext cx="6705360" cy="2017440"/>
        </p:xfrm>
        <a:graphic>
          <a:graphicData uri="http://schemas.openxmlformats.org/drawingml/2006/table">
            <a:tbl>
              <a:tblPr/>
              <a:tblGrid>
                <a:gridCol w="2235240"/>
                <a:gridCol w="2234880"/>
                <a:gridCol w="223524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1987A-motivated (conservat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-motivated (gener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. allowed by SK lim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22-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25440" y="5943600"/>
            <a:ext cx="673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L., Astropart.Phys.26:190-201,2006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gli et al. JCAP 0504:002,200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pe &amp; Welzel, 2007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L. and O.L.G. Peres, JCAP08(2008)03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Spectral sensitivity!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13372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5802120" cy="4425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5040" y="1676520"/>
            <a:ext cx="41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ized to 150 event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3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5880" y="6195960"/>
            <a:ext cx="32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Phys.Rev.D75:073022,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 step beyond SN1987A!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est SN codes of spectra form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me oscillation effect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1 Mt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part of paramet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not reach SN1987A reg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267080" y="1295280"/>
            <a:ext cx="4496040" cy="4897440"/>
            <a:chOff x="4267080" y="1295280"/>
            <a:chExt cx="4496040" cy="489744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4267080" y="1295280"/>
              <a:ext cx="449604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637680" y="1712880"/>
              <a:ext cx="126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 Mt </a:t>
              </a:r>
              <a:r>
                <a:rPr b="0" lang="en-US" sz="18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659040" y="6195960"/>
            <a:ext cx="52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uksel, Ando and Beacom, Phys.Rev.C74:015803,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668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Chance to test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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!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022440" y="25146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r ~ 0.6 –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438280" y="3276360"/>
            <a:ext cx="152640" cy="685800"/>
            <a:chOff x="2438280" y="3276360"/>
            <a:chExt cx="152640" cy="685800"/>
          </a:xfrm>
        </p:grpSpPr>
        <p:sp>
          <p:nvSpPr>
            <p:cNvPr id="177" name=""/>
            <p:cNvSpPr/>
            <p:nvPr/>
          </p:nvSpPr>
          <p:spPr>
            <a:xfrm flipV="1">
              <a:off x="2514600" y="32763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8280" y="3581280"/>
              <a:ext cx="1526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76720" y="3657240"/>
            <a:ext cx="152280" cy="685800"/>
            <a:chOff x="3276720" y="3657240"/>
            <a:chExt cx="152280" cy="685800"/>
          </a:xfrm>
        </p:grpSpPr>
        <p:sp>
          <p:nvSpPr>
            <p:cNvPr id="180" name=""/>
            <p:cNvSpPr/>
            <p:nvPr/>
          </p:nvSpPr>
          <p:spPr>
            <a:xfrm flipV="1">
              <a:off x="3352680" y="365724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3962160"/>
              <a:ext cx="152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62520" y="4266720"/>
            <a:ext cx="152280" cy="685800"/>
            <a:chOff x="3962520" y="4266720"/>
            <a:chExt cx="152280" cy="685800"/>
          </a:xfrm>
        </p:grpSpPr>
        <p:sp>
          <p:nvSpPr>
            <p:cNvPr id="183" name=""/>
            <p:cNvSpPr/>
            <p:nvPr/>
          </p:nvSpPr>
          <p:spPr>
            <a:xfrm flipV="1">
              <a:off x="4038480" y="426672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4571640"/>
              <a:ext cx="15228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724280" y="4647960"/>
            <a:ext cx="152640" cy="685800"/>
            <a:chOff x="4724280" y="4647960"/>
            <a:chExt cx="152640" cy="685800"/>
          </a:xfrm>
        </p:grpSpPr>
        <p:sp>
          <p:nvSpPr>
            <p:cNvPr id="186" name=""/>
            <p:cNvSpPr/>
            <p:nvPr/>
          </p:nvSpPr>
          <p:spPr>
            <a:xfrm flipV="1">
              <a:off x="4800600" y="46479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4952880"/>
              <a:ext cx="15264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V="1">
            <a:off x="5562720" y="487656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5181480"/>
            <a:ext cx="1522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324480" y="5029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334120"/>
            <a:ext cx="15228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086600" y="5029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5334120"/>
            <a:ext cx="15264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3375000" cy="14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728240" y="18288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to 150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8280" y="610092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Phys.Rev.D75:073022,200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095880" cy="5749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1452600">
            <a:off x="2908440" y="2558880"/>
            <a:ext cx="2827080" cy="990720"/>
          </a:xfrm>
          <a:prstGeom prst="ellipse">
            <a:avLst/>
          </a:prstGeom>
          <a:solidFill>
            <a:srgbClr val="ffcc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2161200">
            <a:off x="4038120" y="1219320"/>
            <a:ext cx="3962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rtist's concep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1528560" y="624780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Astropart.Phys.26:190-201,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668800">
            <a:off x="3648240" y="15998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irect supern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58600">
            <a:off x="2599920" y="32763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use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Liquid scintillator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50292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uchi et al. (KamLAND), PRL92, 2004; Aglietta et al.(LSD), Astrop. Phys. 1, 1992; Wurm et al. (LENA), Phys.Rev.D75:023007,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The feeble signal of all SN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 over the whole univer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695840" cy="48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175248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65840" y="2147760"/>
            <a:ext cx="1416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no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624600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. Ando and K. Sato, New J.Phys.6:170,2004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30040"/>
            <a:ext cx="86421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ff0000"/>
                </a:solidFill>
                <a:uFillTx/>
                <a:latin typeface="Arial Narrow"/>
              </a:rPr>
              <a:t>LENA @ Pyhäsalmi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 Narrow"/>
              </a:rPr>
              <a:t> (Finland), 50 Kt</a:t>
            </a:r>
            <a:endParaRPr b="0" i="1" lang="en-US" sz="2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7000" y="1133640"/>
            <a:ext cx="5257800" cy="46004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5875200" y="1808280"/>
            <a:ext cx="3106800" cy="1979640"/>
            <a:chOff x="5875200" y="1808280"/>
            <a:chExt cx="3106800" cy="1979640"/>
          </a:xfrm>
        </p:grpSpPr>
        <p:sp>
          <p:nvSpPr>
            <p:cNvPr id="209" name=""/>
            <p:cNvSpPr/>
            <p:nvPr/>
          </p:nvSpPr>
          <p:spPr>
            <a:xfrm>
              <a:off x="6730920" y="2573280"/>
              <a:ext cx="1665000" cy="1214640"/>
            </a:xfrm>
            <a:prstGeom prst="rect">
              <a:avLst/>
            </a:prstGeom>
            <a:solidFill>
              <a:srgbClr val="ffffff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75200" y="1808280"/>
              <a:ext cx="3106800" cy="19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dependent on SN model</a:t>
              </a:r>
              <a:br>
                <a:rPr sz="24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 Narrow"/>
                </a:rPr>
                <a:t>(CSFR assumed, f*=2.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LL:</a:t>
              </a: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120</a:t>
              </a:r>
              <a:br>
                <a:rPr sz="2400"/>
              </a:b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00ff"/>
                  </a:solidFill>
                  <a:latin typeface="Arial Narrow"/>
                </a:rPr>
                <a:t>KRJ:</a:t>
              </a:r>
              <a:r>
                <a:rPr b="1" lang="de-DE" sz="2400" spc="-1" strike="noStrike">
                  <a:solidFill>
                    <a:srgbClr val="0000ff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00ff"/>
                  </a:solidFill>
                  <a:latin typeface="Arial Narrow"/>
                </a:rPr>
                <a:t>105</a:t>
              </a:r>
              <a:br>
                <a:rPr sz="2400"/>
              </a:br>
              <a:r>
                <a:rPr b="1" lang="de-DE" sz="2400" spc="-1" strike="noStrike">
                  <a:solidFill>
                    <a:srgbClr val="0000ff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33ccff"/>
                  </a:solidFill>
                  <a:latin typeface="Arial Narrow"/>
                </a:rPr>
                <a:t>TBP:</a:t>
              </a:r>
              <a:r>
                <a:rPr b="1" lang="de-DE" sz="2400" spc="-1" strike="noStrike">
                  <a:solidFill>
                    <a:srgbClr val="33ccff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33ccff"/>
                  </a:solidFill>
                  <a:latin typeface="Arial Narrow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877000" y="4149720"/>
            <a:ext cx="2808360" cy="1665360"/>
            <a:chOff x="5877000" y="4149720"/>
            <a:chExt cx="2808360" cy="1665360"/>
          </a:xfrm>
        </p:grpSpPr>
        <p:sp>
          <p:nvSpPr>
            <p:cNvPr id="212" name=""/>
            <p:cNvSpPr/>
            <p:nvPr/>
          </p:nvSpPr>
          <p:spPr>
            <a:xfrm>
              <a:off x="6732720" y="4599000"/>
              <a:ext cx="1647720" cy="1216080"/>
            </a:xfrm>
            <a:prstGeom prst="rect">
              <a:avLst/>
            </a:prstGeom>
            <a:solidFill>
              <a:srgbClr val="ffffff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7000" y="4149720"/>
              <a:ext cx="280836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dependent on SF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 Narrow"/>
                </a:rPr>
                <a:t>f*=0.7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ff0000"/>
                  </a:solidFill>
                  <a:latin typeface="Arial Narrow"/>
                </a:rPr>
                <a:t>20</a:t>
              </a:r>
              <a:br>
                <a:rPr sz="2400"/>
              </a:br>
              <a:r>
                <a:rPr b="1" lang="de-DE" sz="2400" spc="-1" strike="noStrike">
                  <a:solidFill>
                    <a:srgbClr val="006666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CSFR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 Narrow"/>
                </a:rPr>
                <a:t>105</a:t>
              </a:r>
              <a:br>
                <a:rPr sz="2400"/>
              </a:br>
              <a:r>
                <a:rPr b="1" lang="de-DE" sz="2400" spc="-1" strike="noStrike">
                  <a:solidFill>
                    <a:srgbClr val="0000ff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ff9900"/>
                  </a:solidFill>
                  <a:latin typeface="Arial Narrow"/>
                </a:rPr>
                <a:t>f*=4.2</a:t>
              </a:r>
              <a:r>
                <a:rPr b="1" lang="de-DE" sz="2400" spc="-1" strike="noStrike">
                  <a:solidFill>
                    <a:srgbClr val="ff9900"/>
                  </a:solidFill>
                  <a:latin typeface="Arial Narrow"/>
                </a:rPr>
                <a:t>	</a:t>
              </a:r>
              <a:r>
                <a:rPr b="1" lang="de-DE" sz="2400" spc="-1" strike="noStrike">
                  <a:solidFill>
                    <a:srgbClr val="ff9900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562720" y="324000"/>
            <a:ext cx="328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vent rate in 10 yrs: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nside the energy window from 9.7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25600" y="60847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kground event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8280" y="76212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M. Wurm, talk at NNN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void nulear 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owerplants!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5153040" cy="4284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04920" y="4648320"/>
            <a:ext cx="5105160" cy="228600"/>
          </a:xfrm>
          <a:prstGeom prst="rect">
            <a:avLst/>
          </a:prstGeom>
          <a:solidFill>
            <a:srgbClr val="993366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5715000"/>
            <a:ext cx="5105160" cy="228600"/>
          </a:xfrm>
          <a:prstGeom prst="rect">
            <a:avLst/>
          </a:prstGeom>
          <a:solidFill>
            <a:srgbClr val="993366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6280" y="160488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urm et al., PRD7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4073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4160" y="35863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 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obing the neutrino spectrum: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343400" cy="389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197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924680" y="3352680"/>
            <a:ext cx="914400" cy="152640"/>
          </a:xfrm>
          <a:prstGeom prst="rect">
            <a:avLst/>
          </a:prstGeom>
          <a:solidFill>
            <a:srgbClr val="af67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3505320"/>
            <a:ext cx="4038480" cy="380880"/>
          </a:xfrm>
          <a:prstGeom prst="rect">
            <a:avLst/>
          </a:prstGeom>
          <a:solidFill>
            <a:srgbClr val="af67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Liquid argon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A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 + 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4681080"/>
            <a:ext cx="6400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Cline et al. (LANNDD), Nucl.Instrum.Meth.A503:136-140,2003;  B Fleming (ArgoNEUT), Nucl.Phys.Proc.Suppl.155:245-247,2006;  Baibussinov et al. (MODULAr), Astropart.Phys.29:174-187,2008 ; Autiero et al. (GLACIER, LAGUNA), JCAP 0711:011,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802400" y="609588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cco et al., JCAP 0412:002,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4329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groun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osph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window: 16-40 MeV (normalization-depend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5 Mt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e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2654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43000" y="4724280"/>
            <a:ext cx="4572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es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detecto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th bot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and anti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physics potential at least doub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17517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pe &amp; Welzel, arXiv:0711.323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Ideas for R&amp;D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heorist’s perspec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Oscillations reduce reactor background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181840" cy="3525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>
            <a:off x="5029200" y="2666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105520" y="35053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38000" y="206208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ve reactors clos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Homes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1240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ll reactors were at 51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optimal distance for suppression at 11 MeV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/Km= 170,510,850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02160" y="577548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in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44040" y="4800600"/>
            <a:ext cx="293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window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1 MeV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Directional detection for signal separation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ay to fully separate backgrounds (solar, re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 energy window 1 – 10 MeV : cold neutrinos from Pop III stars, neutron stars, geoneutrinos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truly multi-purpose facility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800600" cy="279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035320" y="4929120"/>
            <a:ext cx="38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. Iocco et al, Astropart. Phys. 23 (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d- or Li-loaded liquid scintill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cattering in 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ematic reconstruction of CC reactions in 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590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chmuth et. al., Astropart. Phys. 27 (2007), Shimizu, Nucl. Phys. Proc. Suppl. 168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4160" y="6091200"/>
            <a:ext cx="424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mizu, Nucl. Phys. Proc. Suppl. 168 (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05200" y="1447920"/>
            <a:ext cx="4137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obes deep in star’s interior…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s near SN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etics of collapse  (mass of core , eq. of stat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pectra 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cillations at extreme den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raction effect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ss spectru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phys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xions, majorons, steri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ay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erspectives for the futur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Conservative scenario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o galactic SN in the next 10 y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DF will be detected :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first data after SN1987A!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ater+Gd 20 kt                 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indicatio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ater 0.4 Mt                     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evidence (rate only?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ater+Gd 0.4 Mt               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measur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spectrum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r Liquid scintillator 50 k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With spectral sensitivity: beyond SN1987A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omic Sans MS"/>
              </a:rPr>
              <a:t>Strong focus on original spectrum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sensitivity t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onstraint on 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9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R(0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ore precise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from SN surveys (SNAP, JWST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099680" y="548640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http://snap.lbl.gov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jwst.nasa.gov/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Exciting scenario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ecise 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spectrum from Galactic supernov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ecis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from SN survey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DF will help measure: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(0) (independent check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independent check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raction of stars that become SN (failed SN?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enitor dependence of neutrino spectrum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8195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304920"/>
            <a:ext cx="3581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alk in 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one slide</a:t>
            </a:r>
            <a:endParaRPr b="0" i="1" lang="en-US" sz="40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846760" cy="294012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2895480"/>
            <a:ext cx="3733920" cy="3962520"/>
            <a:chOff x="0" y="2895480"/>
            <a:chExt cx="3733920" cy="396252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0" y="2895480"/>
              <a:ext cx="37339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71360" y="3234600"/>
              <a:ext cx="126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 Mt </a:t>
              </a:r>
              <a:r>
                <a:rPr b="0" lang="en-US" sz="18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29000" y="2698920"/>
            <a:ext cx="4000320" cy="3930480"/>
            <a:chOff x="3429000" y="2698920"/>
            <a:chExt cx="4000320" cy="393048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3429000" y="2895480"/>
              <a:ext cx="38275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rot="1452600">
              <a:off x="4345560" y="4260240"/>
              <a:ext cx="1775160" cy="643320"/>
            </a:xfrm>
            <a:prstGeom prst="ellipse">
              <a:avLst/>
            </a:prstGeom>
            <a:solidFill>
              <a:srgbClr val="ffcc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 rot="2161200">
              <a:off x="5055120" y="3390120"/>
              <a:ext cx="2487960" cy="42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Artist's concep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668800">
              <a:off x="4608000" y="3850200"/>
              <a:ext cx="208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Direct supern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omic Sans MS"/>
                </a:rPr>
                <a:t>observ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758600">
              <a:off x="4071240" y="48906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ffuse neutri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6172200"/>
            <a:ext cx="7696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1371600"/>
            <a:ext cx="2971800" cy="2057400"/>
          </a:xfrm>
          <a:prstGeom prst="cloudCallout">
            <a:avLst>
              <a:gd name="adj1" fmla="val 18217"/>
              <a:gd name="adj2" fmla="val 41125"/>
            </a:avLst>
          </a:prstGeom>
          <a:solidFill>
            <a:srgbClr val="99cc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ckground separation at low energy is ke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Backup slides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Literatur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isnovatyi-Kogan &amp; Seidov, 1982 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rauss,Glashow &amp; Schramm, 1984 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oosley, Wilson &amp;Mayle, 1986 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tani &amp; Sato, 1995 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tani, Sato&amp; Yoshii, 1995 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aney 1997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Hartmann &amp;Woosley 1997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aplinghat, Steigman &amp; Walker,2000 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do, Sato &amp; Totani, 2003 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o &amp;Sato, 2003 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trigari, Kaplinghat, Steigman&amp;Walker, 2000 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o, 2004 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occo et al.,2004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ardini 2005 ;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igne, Olive, Sandick &amp; Vangioni, 2005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ardini, 2006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Wurm et al., 2007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uksel &amp; Beacom, 2007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Volpe &amp; Welzel, 2007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kraborty et al., 2008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Lunardini &amp; Peres,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Sensitivity to SN rate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4373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lternative to a galactic supernov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stat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flux,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o waiting ti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be standard physics in futu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20 events/year at 20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e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A galactic supernova will always be once in a lifetime, the DF will be everyday stu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…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nd deep in space (and time!)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40 %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s above 19.3 MeV are from z&gt;0.5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57380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76920" y="6246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. Ando and K. Sato, New J.Phys.6:170,2004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594400" cy="94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cosmological rate of S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e history of star 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 lived sta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N rate traces star formation rate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al the first stars (Population III, z ~ 13 -2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3697200" cy="33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638680" y="3352680"/>
            <a:ext cx="1258920" cy="28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62920" y="3276720"/>
            <a:ext cx="691920" cy="34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848720" y="3317760"/>
            <a:ext cx="100476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752400"/>
            <a:ext cx="8443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729560" cy="992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redicting the DF</a:t>
            </a:r>
            <a:endParaRPr b="0" i="1" lang="en-US" sz="4400" spc="-1" strike="noStrike" u="sng">
              <a:solidFill>
                <a:srgbClr val="ff00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380988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E &gt;~ 10-15 MeV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6325920" cy="104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2514600"/>
            <a:ext cx="3200400" cy="457200"/>
          </a:xfrm>
          <a:prstGeom prst="wedgeRectCallout">
            <a:avLst>
              <a:gd name="adj1" fmla="val 22421"/>
              <a:gd name="adj2" fmla="val -109027"/>
            </a:avLst>
          </a:prstGeom>
          <a:solidFill>
            <a:srgbClr val="99ccff">
              <a:alpha val="4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mological supernov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124080"/>
            <a:ext cx="4190760" cy="457200"/>
          </a:xfrm>
          <a:prstGeom prst="wedgeRectCallout">
            <a:avLst>
              <a:gd name="adj1" fmla="val -32310"/>
              <a:gd name="adj2" fmla="val -226388"/>
            </a:avLst>
          </a:prstGeom>
          <a:solidFill>
            <a:srgbClr val="99ccff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rom individual S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ci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2590920"/>
            <a:ext cx="1679760" cy="32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4800" y="4495680"/>
            <a:ext cx="1143000" cy="10670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4495680"/>
            <a:ext cx="129528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56272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 original neutr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trum 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5-7 MeV, depending on oscillation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66280" y="5562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360" y="60955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L., PRD75,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781680" y="5943600"/>
            <a:ext cx="197172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0:55:41Z</dcterms:created>
  <dc:creator>Cecilia Lunardini</dc:creator>
  <dc:description/>
  <dc:language>en-US</dc:language>
  <cp:lastModifiedBy>Cecilia Lunardini</cp:lastModifiedBy>
  <dcterms:modified xsi:type="dcterms:W3CDTF">2008-09-09T12:48:51Z</dcterms:modified>
  <cp:revision>85</cp:revision>
  <dc:subject/>
  <dc:title>Relic supernova neutrinos: what can we learn (and how)?</dc:title>
</cp:coreProperties>
</file>